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2BC8-D726-44FF-AA1E-5DB0574FE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4424-09CD-4DE5-8A59-723BDF6C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3382-BDCF-4F21-8916-D85DCC998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3A0A-51AF-4C0C-946F-DF1D203D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4A5C-8FE9-4938-BFE4-6D96680E5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23AE-0856-44CD-B5A6-D92626D6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6DE5-E6D2-49A4-819E-189A3A85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4B7E-697A-4422-A1A9-135ADBAC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0F800-E540-4E4D-93DF-7AE3E3A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7801-9EBD-41F4-821A-3B0DF24E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81446-EB25-46A6-83A1-8D2493A2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51E2-AE68-48E0-BED1-AE123B06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61FE-4D43-4426-A09A-BBD04F33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1F73-D585-481B-AEF8-D928CF72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4D63-54C5-4CA4-8D92-EA53A826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8C9ED-7571-4CB8-957B-B5706EAD4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312F-E5F7-498A-A16B-27A2CC7CC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ADF-46AB-4D43-87A1-D6C689FB7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833E-CAD1-49E6-AC70-52885116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6FB1-F574-4EF3-8E06-38D881A0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E23-DF33-4B1F-9675-699783A8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3628-6B47-473F-A270-41A3900E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0630-7100-48EE-9BF5-B9543A52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5473-6198-431D-A4DC-21FBC7E4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BA2B-FACF-4AE6-8E8F-C05B8DBD8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6BF4-A673-4F45-8051-D0D5BDC5E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447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at’s the EQ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your way in writing Essential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Your Activ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what you know at this point about the monster, Victor Frankenstein, and the novel.  Also consider important themes and ideas in regard to Romantic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own those id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Your Activ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ink of the monster project:  What question do you think, if explored further, will lead you to a deeper and more profound understanding of the novel Frankenste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that ques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Your Activ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e several essential questions for your research report/project using the Question Brainstor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 with your group to discuss and get feedback about your essential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on the essential question you will use for your pro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Essential Question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are questions which touch our hearts and souls. They are central to our lives. They help to define what it means to be hu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ost important thought during our lives will center on such essential questions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it mean to be a good frie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friend shall I b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will I include in my circle of fri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hall I treat my frien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Q’s are at the center of all other types of question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48006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33520" y="5670720"/>
            <a:ext cx="78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other questions and questioning skills serve the purpose of "casting light upon" or illuminating Essential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racteristics of EQ’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 Questions probe the deepest issues confronting us . . . complex and baffling matters which elude simple answ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ri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emp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ty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a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po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ead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ray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n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pi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haracteristics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llow peopl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plore the conn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tween their personal, individual, unique experience of the world and its exterior, held-in-common dimens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xploring essential questions together, people are able t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nd expression for their own strongest gifts and intere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the same time that they are able to establish a sense of community with oth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open-ended and resist a simple or single right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deliberately thought-provoking, counterintuitive, and/or controvers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require students to draw upon content knowledge and personal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revisited throughout the unit to engage students in evolving dialogue and deb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lead to other essential questions posed by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Requires Students to…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E (make a thoughtful choice between options, with the choice based upon clearly stated cri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HESIZE (invent a new or different versio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(develop a thorough and complex understanding through skillful questioning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:"What makes a video game good?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CATEGORIES: graphics, ease of use, violence, and audience appropriate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QUENT QUESTIONS: "How do graphics affect the quality of the game?" or "How does ease of use contribute to its overall rating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01:13:05Z</dcterms:created>
  <dc:creator>Brandi Caldwell</dc:creator>
  <dc:description/>
  <dc:language>en-US</dc:language>
  <cp:lastModifiedBy>Moody High School</cp:lastModifiedBy>
  <dcterms:modified xsi:type="dcterms:W3CDTF">2008-10-23T20:13:54Z</dcterms:modified>
  <cp:revision>2</cp:revision>
  <dc:subject/>
  <dc:title>What’s the EQ?</dc:title>
</cp:coreProperties>
</file>